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769D-0BF8-4B3B-9EBA-0BB0AA8BA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65B0-A429-4169-AD5A-AD5DBFAD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BB93-1E84-4616-BE36-EDCE9557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585A-4325-41BA-BE63-BC837CD7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15E0-7002-46F7-836C-8B12FABF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6C10D-4BBB-4689-AFD6-65F5E5E4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C1C6-A7C7-401F-92A7-83579E3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1741-247A-485D-8B06-7DDFFDAB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797C-31A1-4DFD-9026-D6F8082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80AB-9AA4-46FE-9E78-EB0D1DC47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C883-5A77-474F-A017-1B58E6C9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36DA-8660-4339-AEDE-F74D60B54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368B3-986E-4C23-A0CC-5627E6D5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B8E7-F813-455C-8F57-5E9C46FF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9661-FEF9-44FB-9F02-02391A519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07D55-0021-4887-81B6-31766600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8F5E8-9EFE-4655-AD09-3E851B8C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0F685-F034-4749-AA73-C0BBDAA37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32EAF-C95E-4C8F-A684-1217DC44F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5F2A29-8F7B-4A8C-BDE2-454ED847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B05E0A-C3BB-4305-B410-B98379C11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11658-6FE9-43CE-B634-0FD78D1B9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61B-7B81-41C5-A985-8CA6C96A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3DA47-4BB3-4AEA-ADA3-9D6F8A326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6AB029-D063-468A-9187-582A7E0A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91670C-1B36-49A2-8D39-37BF3A3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C7CAA-D99B-46D7-9DF8-840C560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70880-48AB-4AB2-9F0B-2288D3F6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1EC7E-EA2B-4E0C-BA4E-59F62477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D47A2-2020-44B0-BC11-9E1A0A43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2E32C-C932-488F-992C-95BFF27E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6D045-205C-4DE2-B338-F3CD4F6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4D4D-F3E2-4332-937B-B97ABF74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56D0-C096-418B-96AA-D79DFCD3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D9C89-6370-4461-A060-F6AF1EBC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13F50-9BC1-4124-814E-1AC37727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9B488-6D2B-473D-B3CC-961C98C1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318EF-A445-4A34-9AA2-73B534654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FE5A67-5FA6-441D-96A1-E2D20C8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A53B5-A9F4-4219-9B3A-843B702F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6E6F-D595-4707-B0FD-F7213A07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6687A-BEF1-4041-B648-0C144154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49BA6-A143-497A-B3FB-CC6663F2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D66C6E-7D77-4CA4-8D67-4A5623062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C899-B9D7-48EC-A117-20F15CC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69411D-8E09-419B-B235-592AE0C0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AEA30-FD27-4FE2-B5ED-60C92783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F12A5-4AD0-4665-9B4D-FF302EC7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E4FA7F-611D-4ED8-B285-63AA1D5C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486333-8FA5-43E9-B5A3-0F03EB93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66B6A-F95B-468C-A985-99E2BCEB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134E98-EB9C-41BC-9A90-73D2F45C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9C7044-BCAD-4543-87A2-D62E53B8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8800D0-BD3F-45D8-B1AB-20F97F6B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FD22F0-4B08-4F40-9D68-4AC13102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69E-CD74-4373-B0D8-0ECE4216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90A93B-6D01-4F5A-8154-9B90A084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92E9C7A-4CF7-46B8-AE9C-BC3F39AFD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94A241-60C1-4414-AA73-0120CF1FC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9EE1E8-7B5C-4A0E-8BE8-F7E8F1B9D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CFBC07-7530-49EE-89EC-D6A3D1E3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5CB6FE-A4DA-43A0-9473-3BADC5F9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6E278-91AC-47FF-B82C-3D2F5663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CEF23C-24F2-45E4-8B8F-247C7C63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6C8095-5DCF-4F95-902D-913AAB53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7144A-63EC-47D9-90FE-77470CC2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3C28-89EF-4E24-89E2-BF7BACFF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44910-239C-4F2A-9BE9-E2AFDA1A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43924-78A6-4BF4-A562-BB2400F4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C857E1-4EA2-4A90-B6A8-494E0A65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E6AFD7-A4AA-4CEB-A03E-C657ABBA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89150A-3053-4A3B-898B-748C02C5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F65ECB-838A-4FF1-83E2-75C3D521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48FBAB-9514-4E84-841A-E9AE5331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CC2F9-CC48-434F-942A-C47EAFC58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7E4801-FF1C-4629-87AC-65620245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724512-02F9-43B8-8DA2-B1BF5BFE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0B09-63DC-4996-BF63-095BC1E30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2B4E7-F870-41F4-9E8F-DE10ECCE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579797C-2259-49A9-93E1-60F9EB0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5D4E1E-3680-466D-BD6B-BF8508C85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DFFF9E-27F8-4772-91B7-34D4A0A4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665BE-2F66-4CCB-9455-31A60557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AAD-FE28-43BA-9D08-5B593772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A8FF-6EE6-4060-8139-E002B2707B73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ec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htec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htec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Gerade Verbindung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Gerade Verbindung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Gerade Verbindung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Gerade Verbindung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Gerade Verbindung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Gerade Verbindung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hteck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Ellipse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Ellipse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Ellipse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Ellipse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Ellipse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5CF6-57ED-430D-A274-05285E6112E9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205F1-F2B4-471E-AE32-DABBD9E15644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hteck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hteck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hteck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hteck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Gerade Verbindung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Gerade Verbindung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Gerade Verbindung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Gerade Verbindung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Gerade Verbindung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hteck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Ellipse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Ellipse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Ellipse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Ellipse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Ellipse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Gerade Verbindung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9B4D-E358-4308-B66E-0AF0DA55043B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Gerade Verbindung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Gerade Verbindung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Gerade Verbindung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hteck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Gerade Verbindung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Ellipse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1AE0-DC5A-4302-9C48-AE031EA336D0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Gerade Verbindung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Gerade Verbindung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Gerade Verbindung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Gerade Verbindung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hteck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Gerade Verbindung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Ellipse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11A9-B9E1-40CE-A2DF-42CEB6328E40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Gerade Verbindung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Ellipse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Gerade Verbindung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hteck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Gerade Verbindung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Gerade Verbindung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Gerade Verbindung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6399-A152-44B7-A8DF-81BAC3F0B25A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en.wikipedia.org/wiki/Renewable_energy" TargetMode="External"/><Relationship Id="rId2" Type="http://schemas.openxmlformats.org/officeDocument/2006/relationships/hyperlink" Target="http://www.soolux.com/uploads/tx_sftextbox/Erneuerbare-Energien-am-Gesamtverbrauch-98-07.JPG" TargetMode="External"/><Relationship Id="rId3" Type="http://schemas.openxmlformats.org/officeDocument/2006/relationships/hyperlink" Target="http://www.waermewechsel.de/fileadmin/content/Wissen-Daten/Erneuerbar_Heizen/Anteile_Waermeverbrauch_2008.jpg" TargetMode="External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2880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800" spc="-1" strike="noStrike" u="sng">
                <a:solidFill>
                  <a:srgbClr val="000000"/>
                </a:solidFill>
                <a:uFillTx/>
                <a:latin typeface="Forte"/>
              </a:rPr>
              <a:t>GFS ENGLISCH</a:t>
            </a:r>
            <a:endParaRPr b="0" lang="en-US" sz="8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14720" y="4642920"/>
            <a:ext cx="69292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575f6d"/>
                </a:solidFill>
                <a:latin typeface="Forte"/>
              </a:rPr>
              <a:t>Luisa Johnen G1-1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575f6d"/>
                </a:solidFill>
                <a:latin typeface="Forte"/>
              </a:rPr>
              <a:t>04.05.10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feld 3"/>
          <p:cNvSpPr/>
          <p:nvPr/>
        </p:nvSpPr>
        <p:spPr>
          <a:xfrm>
            <a:off x="500040" y="142920"/>
            <a:ext cx="742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Differences Photovoltaic and Solar collector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071720" y="1928880"/>
          <a:ext cx="6000480" cy="2500200"/>
        </p:xfrm>
        <a:graphic>
          <a:graphicData uri="http://schemas.openxmlformats.org/drawingml/2006/table">
            <a:tbl>
              <a:tblPr/>
              <a:tblGrid>
                <a:gridCol w="3000240"/>
                <a:gridCol w="3000240"/>
              </a:tblGrid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tovoltai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collecto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ic energ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: 14-1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span: 30 year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ea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iency: 75- 85%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fe span: 40 ye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600.000 households in     German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duces electrical energy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2" name="Textfeld 3"/>
          <p:cNvSpPr/>
          <p:nvPr/>
        </p:nvSpPr>
        <p:spPr>
          <a:xfrm>
            <a:off x="714240" y="35712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hotovoltaic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3" name="Picture 6" descr=""/>
          <p:cNvPicPr/>
          <p:nvPr/>
        </p:nvPicPr>
        <p:blipFill>
          <a:blip r:embed="rId1"/>
          <a:stretch/>
        </p:blipFill>
        <p:spPr>
          <a:xfrm>
            <a:off x="3143160" y="3857760"/>
            <a:ext cx="361944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feld 3"/>
          <p:cNvSpPr/>
          <p:nvPr/>
        </p:nvSpPr>
        <p:spPr>
          <a:xfrm>
            <a:off x="714240" y="357120"/>
            <a:ext cx="7643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hotovoltaic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5" name="Picture 2" descr="C:\Dokumente und Einstellungen\Luisa\Eigene Dateien\Eigene Bilder\c09642c4b4.jpg"/>
          <p:cNvPicPr/>
          <p:nvPr/>
        </p:nvPicPr>
        <p:blipFill>
          <a:blip r:embed="rId1"/>
          <a:stretch/>
        </p:blipFill>
        <p:spPr>
          <a:xfrm>
            <a:off x="1428840" y="1785960"/>
            <a:ext cx="5810040" cy="4357800"/>
          </a:xfrm>
          <a:prstGeom prst="rect">
            <a:avLst/>
          </a:prstGeom>
          <a:ln w="0">
            <a:noFill/>
          </a:ln>
        </p:spPr>
      </p:pic>
      <p:sp>
        <p:nvSpPr>
          <p:cNvPr id="396" name="Textfeld 5"/>
          <p:cNvSpPr/>
          <p:nvPr/>
        </p:nvSpPr>
        <p:spPr>
          <a:xfrm>
            <a:off x="857160" y="2428920"/>
            <a:ext cx="1428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voltaic cell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Textfeld 6"/>
          <p:cNvSpPr/>
          <p:nvPr/>
        </p:nvSpPr>
        <p:spPr>
          <a:xfrm>
            <a:off x="928800" y="4214880"/>
            <a:ext cx="67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t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Textfeld 7"/>
          <p:cNvSpPr/>
          <p:nvPr/>
        </p:nvSpPr>
        <p:spPr>
          <a:xfrm>
            <a:off x="5643720" y="3571920"/>
            <a:ext cx="78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blic network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Inhaltsplatzhalter 2"/>
          <p:cNvSpPr/>
          <p:nvPr/>
        </p:nvSpPr>
        <p:spPr>
          <a:xfrm>
            <a:off x="428760" y="1571760"/>
            <a:ext cx="82296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8000 hydropower plants in Germany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gest plant of Germany in Thüringen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ggest plant of the world is the Three Gorges Dam in China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0" name="Textfeld 5"/>
          <p:cNvSpPr/>
          <p:nvPr/>
        </p:nvSpPr>
        <p:spPr>
          <a:xfrm>
            <a:off x="1214280" y="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Hydropowe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tretch/>
        </p:blipFill>
        <p:spPr>
          <a:xfrm>
            <a:off x="214200" y="3976560"/>
            <a:ext cx="4143600" cy="27241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2"/>
          <a:stretch/>
        </p:blipFill>
        <p:spPr>
          <a:xfrm>
            <a:off x="4572000" y="3976560"/>
            <a:ext cx="403380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Dokumente und Einstellungen\Luisa\Eigene Dateien\Eigene Bilder\Bild1.jpg"/>
          <p:cNvPicPr/>
          <p:nvPr/>
        </p:nvPicPr>
        <p:blipFill>
          <a:blip r:embed="rId1"/>
          <a:stretch/>
        </p:blipFill>
        <p:spPr>
          <a:xfrm>
            <a:off x="1000080" y="1357200"/>
            <a:ext cx="6681960" cy="5072040"/>
          </a:xfrm>
          <a:prstGeom prst="rect">
            <a:avLst/>
          </a:prstGeom>
          <a:ln w="0">
            <a:noFill/>
          </a:ln>
        </p:spPr>
      </p:pic>
      <p:sp>
        <p:nvSpPr>
          <p:cNvPr id="404" name="Textfeld 5"/>
          <p:cNvSpPr/>
          <p:nvPr/>
        </p:nvSpPr>
        <p:spPr>
          <a:xfrm>
            <a:off x="2000160" y="3214800"/>
            <a:ext cx="57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Da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Textfeld 6"/>
          <p:cNvSpPr/>
          <p:nvPr/>
        </p:nvSpPr>
        <p:spPr>
          <a:xfrm>
            <a:off x="3929040" y="371484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Generato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Textfeld 8"/>
          <p:cNvSpPr/>
          <p:nvPr/>
        </p:nvSpPr>
        <p:spPr>
          <a:xfrm>
            <a:off x="5072040" y="4714920"/>
            <a:ext cx="100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alibri"/>
              </a:rPr>
              <a:t>Turbine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7" name="Textfeld 9"/>
          <p:cNvSpPr/>
          <p:nvPr/>
        </p:nvSpPr>
        <p:spPr>
          <a:xfrm>
            <a:off x="1071720" y="28576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8" name="Textfeld 11"/>
          <p:cNvSpPr/>
          <p:nvPr/>
        </p:nvSpPr>
        <p:spPr>
          <a:xfrm>
            <a:off x="1214280" y="21420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Hydropowe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488880" y="1940040"/>
          <a:ext cx="8229600" cy="4829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82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imple and fast construc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indefinitely and worldwide avail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es no greenhouse gases during operati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high cost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solar radiation sticks to weather, time of the day and season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constant energy supply possi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Textfeld 3"/>
          <p:cNvSpPr/>
          <p:nvPr/>
        </p:nvSpPr>
        <p:spPr>
          <a:xfrm>
            <a:off x="3143160" y="114300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d63"/>
                </a:solidFill>
                <a:latin typeface="Calibri"/>
              </a:rPr>
              <a:t>Solar energy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Titel 1"/>
          <p:cNvSpPr/>
          <p:nvPr/>
        </p:nvSpPr>
        <p:spPr>
          <a:xfrm>
            <a:off x="428760" y="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dvantages and disadvantage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2" name=""/>
          <p:cNvGraphicFramePr/>
          <p:nvPr/>
        </p:nvGraphicFramePr>
        <p:xfrm>
          <a:off x="571680" y="2000160"/>
          <a:ext cx="7929360" cy="4675320"/>
        </p:xfrm>
        <a:graphic>
          <a:graphicData uri="http://schemas.openxmlformats.org/drawingml/2006/table">
            <a:tbl>
              <a:tblPr/>
              <a:tblGrid>
                <a:gridCol w="4000320"/>
                <a:gridCol w="3929040"/>
              </a:tblGrid>
              <a:tr h="467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o greenhouse gas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mple construction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dropower plants durab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efficiency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loss of important  living space in the water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airment of nature and landscap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h die because of the turbines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12240">
                      <a:solidFill>
                        <a:srgbClr val="fe863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3" name="Titel 1"/>
          <p:cNvSpPr/>
          <p:nvPr/>
        </p:nvSpPr>
        <p:spPr>
          <a:xfrm>
            <a:off x="428760" y="0"/>
            <a:ext cx="8358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orte"/>
              </a:rPr>
              <a:t>Advantages and disadvantages 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4" name="Textfeld 6"/>
          <p:cNvSpPr/>
          <p:nvPr/>
        </p:nvSpPr>
        <p:spPr>
          <a:xfrm>
            <a:off x="3000240" y="1143000"/>
            <a:ext cx="314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95d63"/>
                </a:solidFill>
                <a:latin typeface="Calibri"/>
              </a:rPr>
              <a:t>Hydropower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Inhaltsplatzhalter 2" descr=""/>
          <p:cNvPicPr/>
          <p:nvPr/>
        </p:nvPicPr>
        <p:blipFill>
          <a:blip r:embed="rId1"/>
          <a:stretch/>
        </p:blipFill>
        <p:spPr>
          <a:xfrm>
            <a:off x="304920" y="1657440"/>
            <a:ext cx="6199200" cy="4902120"/>
          </a:xfrm>
          <a:prstGeom prst="rect">
            <a:avLst/>
          </a:prstGeom>
          <a:ln w="0">
            <a:noFill/>
          </a:ln>
        </p:spPr>
      </p:pic>
      <p:sp>
        <p:nvSpPr>
          <p:cNvPr id="416" name="Textfeld 3"/>
          <p:cNvSpPr/>
          <p:nvPr/>
        </p:nvSpPr>
        <p:spPr>
          <a:xfrm>
            <a:off x="1071720" y="285840"/>
            <a:ext cx="63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Potential 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7" name="Picture 2" descr=""/>
          <p:cNvPicPr/>
          <p:nvPr/>
        </p:nvPicPr>
        <p:blipFill>
          <a:blip r:embed="rId2"/>
          <a:stretch/>
        </p:blipFill>
        <p:spPr>
          <a:xfrm>
            <a:off x="1071720" y="3929040"/>
            <a:ext cx="3660480" cy="2928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3"/>
          <a:stretch/>
        </p:blipFill>
        <p:spPr>
          <a:xfrm>
            <a:off x="6000840" y="1714680"/>
            <a:ext cx="26431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1"/>
              </a:rPr>
              <a:t>http://en.wikipedia.org/wiki/Renewable_energy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2"/>
              </a:rPr>
              <a:t>http://www.soolux.com/uploads/tx_sftextbox/Erneuerbare-Energien-am-Gesamtverbrauch-98-07.JP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d2611c"/>
                </a:solidFill>
                <a:uFillTx/>
                <a:latin typeface="Calibri"/>
                <a:hlinkClick r:id="rId3"/>
              </a:rPr>
              <a:t>http://www.waermewechsel.de/fileadmin/content/Wissen-Daten/Erneuerbar_Heizen/Anteile_Waermeverbrauch_2008.jpg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95d63"/>
                </a:solidFill>
                <a:uFillTx/>
                <a:latin typeface="Calibri"/>
              </a:rPr>
              <a:t>http://de.wikipedia.org/wiki/Sonnenenergi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595d63"/>
                </a:solidFill>
                <a:uFillTx/>
                <a:latin typeface="Calibri"/>
              </a:rPr>
              <a:t>http://de.wikipedia.org/wiki/Wasserkraft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de.wikipedia.org/wiki/Sonnenkollektor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www.solarbusiness.de/fakten/sonnenenergie-die-populaere/alle-setzen-auf-die-sonne/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595d63"/>
                </a:solidFill>
                <a:latin typeface="Calibri"/>
              </a:rPr>
              <a:t>http://www.erneuerbare-energien.de/inhalt/42386/5466/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Textfeld 4"/>
          <p:cNvSpPr/>
          <p:nvPr/>
        </p:nvSpPr>
        <p:spPr>
          <a:xfrm>
            <a:off x="714240" y="357120"/>
            <a:ext cx="57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Forte"/>
              </a:rPr>
              <a:t>Sources</a:t>
            </a:r>
            <a:endParaRPr b="0" lang="en-US" sz="7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142560" y="1571400"/>
            <a:ext cx="85438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orte"/>
              </a:rPr>
              <a:t>Thank you for listening!! 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85840" y="1428840"/>
            <a:ext cx="8400960" cy="469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 u="sng">
                <a:solidFill>
                  <a:srgbClr val="000000"/>
                </a:solidFill>
                <a:uFillTx/>
                <a:latin typeface="Forte"/>
              </a:rPr>
              <a:t>Renewable</a:t>
            </a:r>
            <a:r>
              <a:rPr b="0" lang="de-DE" sz="9200" spc="-1" strike="noStrike" u="sng">
                <a:solidFill>
                  <a:srgbClr val="000000"/>
                </a:solidFill>
                <a:uFillTx/>
                <a:latin typeface="Forte"/>
              </a:rPr>
              <a:t> </a:t>
            </a:r>
            <a:r>
              <a:rPr b="0" lang="en-US" sz="9200" spc="-1" strike="noStrike" u="sng">
                <a:solidFill>
                  <a:srgbClr val="000000"/>
                </a:solidFill>
                <a:uFillTx/>
                <a:latin typeface="Forte"/>
              </a:rPr>
              <a:t>Energy</a:t>
            </a:r>
            <a:endParaRPr b="0" lang="en-US" sz="9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57120" y="1714680"/>
            <a:ext cx="8329680" cy="47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enerally information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velopmen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olar collecto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hotovoltaic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ydropower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dvantages and disadvantages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tential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Textfeld 3"/>
          <p:cNvSpPr/>
          <p:nvPr/>
        </p:nvSpPr>
        <p:spPr>
          <a:xfrm>
            <a:off x="500040" y="285840"/>
            <a:ext cx="72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595d63"/>
                </a:solidFill>
                <a:uFillTx/>
                <a:latin typeface="Forte"/>
              </a:rPr>
              <a:t>Structure</a:t>
            </a:r>
            <a:endParaRPr b="0" lang="en-US" sz="8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213840" y="1600200"/>
            <a:ext cx="8472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s it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ternative to fossil fuel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build themselves or are indefinitely availabl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y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tect the environ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s the production of greenhouse gases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something against the climate chan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ssil fuels are limi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source of energ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w</a:t>
            </a: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lar energy, geothermal energy, wind power or hydropowe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Textfeld 4"/>
          <p:cNvSpPr/>
          <p:nvPr/>
        </p:nvSpPr>
        <p:spPr>
          <a:xfrm>
            <a:off x="285840" y="285840"/>
            <a:ext cx="8358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Generally information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3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Inhaltsplatzhalter 3" descr=""/>
          <p:cNvPicPr/>
          <p:nvPr/>
        </p:nvPicPr>
        <p:blipFill>
          <a:blip r:embed="rId1"/>
          <a:stretch/>
        </p:blipFill>
        <p:spPr>
          <a:xfrm>
            <a:off x="0" y="0"/>
            <a:ext cx="7931160" cy="6480000"/>
          </a:xfrm>
          <a:prstGeom prst="rect">
            <a:avLst/>
          </a:prstGeom>
          <a:ln w="0">
            <a:noFill/>
          </a:ln>
        </p:spPr>
      </p:pic>
      <p:sp>
        <p:nvSpPr>
          <p:cNvPr id="359" name="Textfeld 5"/>
          <p:cNvSpPr/>
          <p:nvPr/>
        </p:nvSpPr>
        <p:spPr>
          <a:xfrm>
            <a:off x="500040" y="285840"/>
            <a:ext cx="7429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Development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Inhaltsplatzhalter 5" descr=""/>
          <p:cNvPicPr/>
          <p:nvPr/>
        </p:nvPicPr>
        <p:blipFill>
          <a:blip r:embed="rId1"/>
          <a:stretch/>
        </p:blipFill>
        <p:spPr>
          <a:xfrm>
            <a:off x="281160" y="133200"/>
            <a:ext cx="85816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2428920" y="3673440"/>
            <a:ext cx="3643200" cy="3184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28760" y="142884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ange of solar radiation to heat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1.500.000 solar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ergy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lants</a:t>
            </a:r>
            <a:r>
              <a:rPr b="0" lang="de-DE" sz="4000" spc="-1" strike="noStrike">
                <a:solidFill>
                  <a:srgbClr val="000000"/>
                </a:solidFill>
                <a:latin typeface="Calibri"/>
              </a:rPr>
              <a:t> in Germany 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dea originates from a hosepipe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Textfeld 14"/>
          <p:cNvSpPr/>
          <p:nvPr/>
        </p:nvSpPr>
        <p:spPr>
          <a:xfrm>
            <a:off x="571680" y="357120"/>
            <a:ext cx="7643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Solar collecto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0" y="3333600"/>
            <a:ext cx="9144000" cy="3524400"/>
          </a:xfrm>
          <a:prstGeom prst="rect">
            <a:avLst/>
          </a:prstGeom>
          <a:ln w="0">
            <a:noFill/>
          </a:ln>
        </p:spPr>
      </p:pic>
      <p:sp>
        <p:nvSpPr>
          <p:cNvPr id="365" name="Textfeld 7"/>
          <p:cNvSpPr/>
          <p:nvPr/>
        </p:nvSpPr>
        <p:spPr>
          <a:xfrm>
            <a:off x="5786280" y="4071960"/>
            <a:ext cx="221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Sola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diation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Textfeld 14"/>
          <p:cNvSpPr/>
          <p:nvPr/>
        </p:nvSpPr>
        <p:spPr>
          <a:xfrm>
            <a:off x="1857240" y="44290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7" name="Textfeld 15"/>
          <p:cNvSpPr/>
          <p:nvPr/>
        </p:nvSpPr>
        <p:spPr>
          <a:xfrm>
            <a:off x="1214280" y="578628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d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Textfeld 16"/>
          <p:cNvSpPr/>
          <p:nvPr/>
        </p:nvSpPr>
        <p:spPr>
          <a:xfrm>
            <a:off x="6429240" y="64882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Warm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Textfeld 17"/>
          <p:cNvSpPr/>
          <p:nvPr/>
        </p:nvSpPr>
        <p:spPr>
          <a:xfrm>
            <a:off x="3500280" y="6488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ub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feld 18"/>
          <p:cNvSpPr/>
          <p:nvPr/>
        </p:nvSpPr>
        <p:spPr>
          <a:xfrm>
            <a:off x="7286760" y="535788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Isol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Textfeld 19"/>
          <p:cNvSpPr/>
          <p:nvPr/>
        </p:nvSpPr>
        <p:spPr>
          <a:xfrm>
            <a:off x="7286760" y="607212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Textfeld 20"/>
          <p:cNvSpPr/>
          <p:nvPr/>
        </p:nvSpPr>
        <p:spPr>
          <a:xfrm>
            <a:off x="5643720" y="46432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t radiation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4" descr="C:\Dokumente und Einstellungen\Luisa\Eigene Dateien\Eigene Bilder\Bild1.png"/>
          <p:cNvPicPr/>
          <p:nvPr/>
        </p:nvPicPr>
        <p:blipFill>
          <a:blip r:embed="rId2"/>
          <a:stretch/>
        </p:blipFill>
        <p:spPr>
          <a:xfrm>
            <a:off x="2286000" y="0"/>
            <a:ext cx="4357800" cy="3314880"/>
          </a:xfrm>
          <a:prstGeom prst="rect">
            <a:avLst/>
          </a:prstGeom>
          <a:ln w="0">
            <a:noFill/>
          </a:ln>
        </p:spPr>
      </p:pic>
      <p:sp>
        <p:nvSpPr>
          <p:cNvPr id="374" name="Textfeld 23"/>
          <p:cNvSpPr/>
          <p:nvPr/>
        </p:nvSpPr>
        <p:spPr>
          <a:xfrm>
            <a:off x="4786200" y="857160"/>
            <a:ext cx="7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ube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Textfeld 24"/>
          <p:cNvSpPr/>
          <p:nvPr/>
        </p:nvSpPr>
        <p:spPr>
          <a:xfrm>
            <a:off x="5143680" y="2214720"/>
            <a:ext cx="78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Glass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Textfeld 25"/>
          <p:cNvSpPr/>
          <p:nvPr/>
        </p:nvSpPr>
        <p:spPr>
          <a:xfrm>
            <a:off x="4857840" y="242892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Vacuu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Textfeld 26"/>
          <p:cNvSpPr/>
          <p:nvPr/>
        </p:nvSpPr>
        <p:spPr>
          <a:xfrm>
            <a:off x="4643280" y="264312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Textfeld 27"/>
          <p:cNvSpPr/>
          <p:nvPr/>
        </p:nvSpPr>
        <p:spPr>
          <a:xfrm>
            <a:off x="4286160" y="2928960"/>
            <a:ext cx="85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solation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C:\Dokumente und Einstellungen\Luisa\Eigene Dateien\Eigene Bilder\Bild1.png"/>
          <p:cNvPicPr/>
          <p:nvPr/>
        </p:nvPicPr>
        <p:blipFill>
          <a:blip r:embed="rId1"/>
          <a:stretch/>
        </p:blipFill>
        <p:spPr>
          <a:xfrm>
            <a:off x="1182600" y="1214280"/>
            <a:ext cx="6032520" cy="5659560"/>
          </a:xfrm>
          <a:prstGeom prst="rect">
            <a:avLst/>
          </a:prstGeom>
          <a:ln w="0">
            <a:noFill/>
          </a:ln>
        </p:spPr>
      </p:pic>
      <p:sp>
        <p:nvSpPr>
          <p:cNvPr id="380" name="Textfeld 7"/>
          <p:cNvSpPr/>
          <p:nvPr/>
        </p:nvSpPr>
        <p:spPr>
          <a:xfrm>
            <a:off x="4643280" y="4357800"/>
            <a:ext cx="642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Drinking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Textfeld 9"/>
          <p:cNvSpPr/>
          <p:nvPr/>
        </p:nvSpPr>
        <p:spPr>
          <a:xfrm>
            <a:off x="4286160" y="6429240"/>
            <a:ext cx="5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ld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Textfeld 11"/>
          <p:cNvSpPr/>
          <p:nvPr/>
        </p:nvSpPr>
        <p:spPr>
          <a:xfrm>
            <a:off x="5715000" y="2286000"/>
            <a:ext cx="71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llecto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3" name="Textfeld 12"/>
          <p:cNvSpPr/>
          <p:nvPr/>
        </p:nvSpPr>
        <p:spPr>
          <a:xfrm>
            <a:off x="6286680" y="1428840"/>
            <a:ext cx="78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olar radiation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Textfeld 13"/>
          <p:cNvSpPr/>
          <p:nvPr/>
        </p:nvSpPr>
        <p:spPr>
          <a:xfrm>
            <a:off x="3786120" y="5000760"/>
            <a:ext cx="57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istern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Textfeld 14"/>
          <p:cNvSpPr/>
          <p:nvPr/>
        </p:nvSpPr>
        <p:spPr>
          <a:xfrm>
            <a:off x="4857840" y="285768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ooling water</a:t>
            </a:r>
            <a:endParaRPr b="0" lang="en-US" sz="10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86" name="Gerade Verbindung mit Pfeil 18"/>
          <p:cNvCxnSpPr/>
          <p:nvPr/>
        </p:nvCxnSpPr>
        <p:spPr>
          <a:xfrm flipH="1" flipV="1">
            <a:off x="4857480" y="2642760"/>
            <a:ext cx="286560" cy="21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Gerade Verbindung mit Pfeil 23"/>
          <p:cNvCxnSpPr/>
          <p:nvPr/>
        </p:nvCxnSpPr>
        <p:spPr>
          <a:xfrm>
            <a:off x="5643360" y="3071520"/>
            <a:ext cx="286200" cy="2149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8" name="Textfeld 10"/>
          <p:cNvSpPr/>
          <p:nvPr/>
        </p:nvSpPr>
        <p:spPr>
          <a:xfrm>
            <a:off x="1500120" y="0"/>
            <a:ext cx="600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Forte"/>
              </a:rPr>
              <a:t>Solar collector</a:t>
            </a:r>
            <a:endParaRPr b="0" lang="en-US" sz="6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5:34:25Z</dcterms:created>
  <dc:creator>Luisa</dc:creator>
  <dc:description/>
  <dc:language>en-US</dc:language>
  <cp:lastModifiedBy>Sonja</cp:lastModifiedBy>
  <dcterms:modified xsi:type="dcterms:W3CDTF">2010-06-22T19:55:42Z</dcterms:modified>
  <cp:revision>128</cp:revision>
  <dc:subject/>
  <dc:title>GFS Englisch</dc:title>
</cp:coreProperties>
</file>